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C8C-4F72-45F0-B5C2-020AB489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745-53F0-4D7F-B0D9-D715B88E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1F7-17E5-4305-924C-DD026C5C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7F5-A61A-4A99-9DC1-D0D86FAD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7CD-DB81-4927-ACA6-BEBE60D6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1A7-6634-4033-A7E3-53AF60FC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640-3A8F-4063-BB49-990F00BA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1B9-59BD-46F4-A1C6-CC347765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1DD-88E8-4057-8E8D-F738B63F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203-6534-45F4-BABF-4878EE3C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B36-311C-49EB-9AF2-5BAB923F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0A8-5EC6-4064-88C5-88D88E15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EF3A-BDE4-48BF-98C4-B11B40200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DESIGN BR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 TAC 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layers take turns marking their symbol (X or O) in one square of a 9-square grid.  The first player to get three of his/her symbols in a row Vertically, Horizontally, or Diagonally is the w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8:14:20Z</dcterms:created>
  <dc:creator>bhunt</dc:creator>
  <dc:description/>
  <dc:language>en-US</dc:language>
  <cp:lastModifiedBy>bhunt</cp:lastModifiedBy>
  <dcterms:modified xsi:type="dcterms:W3CDTF">2011-08-29T18:46:44Z</dcterms:modified>
  <cp:revision>2</cp:revision>
  <dc:subject/>
  <dc:title>GAME DESIGN BRIEF</dc:title>
</cp:coreProperties>
</file>